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5910-7D9A-46D8-8492-317574BE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CB4F-C760-4CC7-99BA-D4B491677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44A1-C3F2-45E0-A547-38C9DDAEAA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08D0-4863-4886-AF9C-171B2E230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8344-F6F2-4989-8783-ABC709A075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5CD5-A687-46DD-913F-C3701C10AE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B2F2-07DA-4CC1-8080-EF2A95E1E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16B8-6064-4B15-985C-C421EEB12A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9F59-1E82-4A19-917D-D0C8DCAA5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A2F5-41EA-4E3A-9DAA-5AE9B4FE0D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8999-20EC-48B0-859A-C16A9355DE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F457-A66E-4214-B889-213FD6319F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E85F-A17A-4B70-AA34-55D726DD2D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9A46-614F-4831-A0E1-406F4FF809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B5DE-8048-4CE6-8A7B-9A851C365D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5F9C-5461-4E34-920D-ACCC4D561B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54D9-CEED-4A63-886E-8FA4244E0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4CE3-BFCE-4E6D-A357-7E1F1DFBF6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68B0-A57A-4270-BDA8-5CDDD72AE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B4E3-23CD-4ADF-9BCE-E3E0B2992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CF18-516A-4EF3-BB21-4CF980496C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7EE-9D7D-4490-BBFF-B49FD3ADA8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E9AA-4200-41F7-9DCD-1F093CEF7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A7F2-5A6F-4911-BE4B-D3792A0DBE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16AF-77CF-4346-9172-E00798BE3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58A9-9CB2-4F30-A8F1-44A526710F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7108-9BCC-4AFB-81F9-9733BC56B7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1619-63DA-4027-B64E-0AC7DFEDC8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BAAC-FE3B-4082-ADF4-E0F3990FA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248B-A584-423F-96E5-FE1AA73B06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C29-DE0B-41C0-9565-4D907577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A50-E25D-4099-B649-9CA12758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AA2-106E-4891-83A4-E6CDB04D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02D-6CB0-4058-B02A-1BA1BDAE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B81-C5BF-4E9B-9334-4AC0A830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59C-37E0-47B0-8FAB-4893716E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AC5-E982-4F42-8EAA-9EEF356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7A9-684F-48B4-B5C2-DD2FD413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FDE-DDEE-4D63-B374-54D6EF63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963-18FA-464A-8D79-8CAA2DD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BDE-0161-465E-9645-6D16D0E3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202-A8F2-47C4-B302-B8097C65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32C9-F9D9-4FB4-BD4E-A8A5DFF74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image" Target="../media/image1.gif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057400" y="152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Times New Roman"/>
              </a:rPr>
              <a:t>Zoo Jeopard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Berry Si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Polar B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Armadil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Milk Sna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Other Zoo Frien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7" descr="C:\Users\Noel\Desktop\panda-ani.gif"/>
          <p:cNvPicPr/>
          <p:nvPr/>
        </p:nvPicPr>
        <p:blipFill>
          <a:blip r:embed="rId26"/>
          <a:stretch/>
        </p:blipFill>
        <p:spPr>
          <a:xfrm>
            <a:off x="304920" y="0"/>
            <a:ext cx="99216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Common Armadillo"/>
          <p:cNvPicPr/>
          <p:nvPr/>
        </p:nvPicPr>
        <p:blipFill>
          <a:blip r:embed="rId27"/>
          <a:stretch/>
        </p:blipFill>
        <p:spPr>
          <a:xfrm>
            <a:off x="7086600" y="304920"/>
            <a:ext cx="1523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28"/>
          <p:cNvSpPr/>
          <p:nvPr/>
        </p:nvSpPr>
        <p:spPr>
          <a:xfrm>
            <a:off x="-4320" y="380880"/>
            <a:ext cx="89985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6699"/>
                </a:solidFill>
                <a:latin typeface="Times New Roman"/>
              </a:rPr>
              <a:t>Mammal, Reptile, or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6699"/>
                </a:solidFill>
                <a:latin typeface="Times New Roman"/>
              </a:rPr>
              <a:t>Amphibi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The polar bear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belongs to this group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of animals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296000" y="533520"/>
            <a:ext cx="6507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aby pola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ars are bor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with thi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mpairmen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67280" y="380880"/>
            <a:ext cx="8127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6699"/>
                </a:solidFill>
                <a:latin typeface="Times New Roman"/>
              </a:rPr>
              <a:t>10, 25, or 50 year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The approximat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number of years th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polar bear can live in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the wild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91560" y="533520"/>
            <a:ext cx="796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onl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 speci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at can roll into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 ball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25320" y="990720"/>
            <a:ext cx="7782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During summer,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s ar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considered thi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20600" y="380880"/>
            <a:ext cx="8931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6699"/>
                </a:solidFill>
                <a:latin typeface="Times New Roman"/>
              </a:rPr>
              <a:t>True or Fals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baby armadill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s born withou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 hard outer shell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4303800" y="111600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990720" y="1219320"/>
            <a:ext cx="761976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ILY DOUB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Action Button: Custom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12360" y="762120"/>
            <a:ext cx="796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only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 speci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n the U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31120" y="1219320"/>
            <a:ext cx="8681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 “color”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at describe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hedding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2000" y="990720"/>
            <a:ext cx="815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milk snake’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ain food at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zoo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ction Button: Custom 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2423520" y="163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07080" y="914400"/>
            <a:ext cx="8558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ime of day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nake usually eats</a:t>
            </a:r>
            <a:r>
              <a:rPr b="0" lang="en-US" sz="88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1066680"/>
            <a:ext cx="784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 milk snake’s venomous twin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916920" y="990720"/>
            <a:ext cx="7347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6699"/>
                </a:solidFill>
                <a:latin typeface="Times New Roman"/>
              </a:rPr>
              <a:t>True or Fals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milk snak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s poisonou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610920" y="1447920"/>
            <a:ext cx="794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onarchs do thi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for the winter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60080" y="914400"/>
            <a:ext cx="796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lant that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Giant Panda eat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6"/>
          <p:cNvSpPr txBox="1"/>
          <p:nvPr/>
        </p:nvSpPr>
        <p:spPr>
          <a:xfrm>
            <a:off x="990720" y="1219320"/>
            <a:ext cx="761976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ILY DOUB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03920" y="609480"/>
            <a:ext cx="828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6699"/>
                </a:solidFill>
                <a:latin typeface="Times New Roman"/>
              </a:rPr>
              <a:t>PICTURE CLU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provides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Komodo Drago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with camouflage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64280" y="914400"/>
            <a:ext cx="775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 solitary reptil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at lives i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hot dry area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14120" y="914400"/>
            <a:ext cx="9051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patterning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determines a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’s specie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3520" y="304920"/>
            <a:ext cx="8229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6699"/>
                </a:solidFill>
                <a:latin typeface="Times New Roman"/>
              </a:rPr>
              <a:t>PICTURE CLU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This animal can kill up to 10,00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people with it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toxin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93960" y="1066680"/>
            <a:ext cx="7223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how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old the Berr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isters can live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3400" y="685800"/>
            <a:ext cx="8520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se are the tre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at are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natural habita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840240" y="1752480"/>
            <a:ext cx="7564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Berry Siste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pecie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7600" y="533520"/>
            <a:ext cx="7689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continen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where the Berry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isters are found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n the wild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534240" y="1828800"/>
            <a:ext cx="784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height of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36400" y="1828800"/>
            <a:ext cx="781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polar bear’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kin is this color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93240" y="914400"/>
            <a:ext cx="7189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olar bear’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greatest enemy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9:10Z</dcterms:created>
  <dc:creator>Philip Bigler</dc:creator>
  <dc:description/>
  <dc:language>en-US</dc:language>
  <cp:lastModifiedBy>Vernice Mulcahy</cp:lastModifiedBy>
  <cp:lastPrinted>2009-12-07T16:38:54Z</cp:lastPrinted>
  <dcterms:modified xsi:type="dcterms:W3CDTF">2009-12-08T01:19:41Z</dcterms:modified>
  <cp:revision>22</cp:revision>
  <dc:subject/>
  <dc:title>Slide 1</dc:title>
</cp:coreProperties>
</file>